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chimes.wav" ContentType="audio/x-wav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1E16-2CE7-43BE-A23F-721CD1C1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EC85-EFBC-48B8-82C3-DEA933A6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0C87-6671-4CC0-932A-FB93C5CB6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62C2-E8E6-42D4-957D-2E2A11A81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025B6-881F-4ACB-8B79-307C3DBA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D744-DD55-489B-B70D-3C0F80BA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EE53-30FF-4AE2-A84B-0699ABC8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4D24-38F8-4EF2-A08A-55459E54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794C-A39E-4669-8F4B-5DE56102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D7C8-606D-4A38-9DC9-FE4BC24A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2B2A-CC43-4F74-B61A-8C11E6FC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A5BD-9E9E-46D8-903E-D12FD40E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97E9-DDD1-49E3-A2B1-1AAA1823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21F4E-27A4-41FA-9CEE-BD4F5376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B557-84C7-41B0-A455-ACC75052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5ACC-F454-4908-AD82-19BB700E6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036A-F23B-4309-9EAA-BD287EDD3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FE1B-9D12-41EF-9DE6-9178FB78E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823B-83E3-494A-9903-F9E14A14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B30C-C4BC-43E8-90CF-BEBA874E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E229-5217-49B5-9F0C-4CD6C4DD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3BA1-AAED-47E7-941B-65354047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5068-9086-4519-9AA2-BACF030F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3F49-CE42-450A-B5F3-AD262DBF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AutoShape 3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7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8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3057-159F-4B43-BC4E-B3F80CE3A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1027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1028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1029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AutoShape 1030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031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032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1033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034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035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036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037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038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1039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1040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1041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042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1043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1044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1045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1046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1047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1048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1049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1050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051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53F7-5CBF-4581-999D-14E36778F3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1881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STRESS MANAGEMEN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7144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 Black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GRAD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HEALTH – HEATH WALL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STRESS CONTINUED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48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LIFE SITUATIONS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- having someone or something die, divorce, trouble relationship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6" name="Picture 5" descr="C:\Program Files\Common Files\Microsoft Shared\Clipart\cagcat50\BD06990_.WMF"/>
          <p:cNvPicPr/>
          <p:nvPr/>
        </p:nvPicPr>
        <p:blipFill>
          <a:blip r:embed="rId1"/>
          <a:stretch/>
        </p:blipFill>
        <p:spPr>
          <a:xfrm>
            <a:off x="5257800" y="2209680"/>
            <a:ext cx="26463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144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How to Manage Your Stres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LIMINATE OR REDUCE YOUR EXPOSURE TO THE STRES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HANGE THE WAY YOU PERCEIVE THE STRES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RELIEVING STRES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67000" y="1981080"/>
            <a:ext cx="384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XERCIS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USIC THERAPY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EDITA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UMOR OR LAUGH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OGRESSIVE MUSCLE RELAXA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EP BREATH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SSAG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61" name="Picture 5" descr="C:\Program Files\Common Files\Microsoft Shared\Clipart\cagcat50\pe02364_.wmf"/>
          <p:cNvPicPr/>
          <p:nvPr/>
        </p:nvPicPr>
        <p:blipFill>
          <a:blip r:embed="rId1"/>
          <a:stretch/>
        </p:blipFill>
        <p:spPr>
          <a:xfrm>
            <a:off x="1066680" y="2455920"/>
            <a:ext cx="384840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1905120" y="4572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STRE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600200" y="25909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body and mind reaction to everyday demands and threa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4" descr="C:\Program Files\Common Files\Microsoft Shared\Clipart\cagcat50\BD07175_.WMF"/>
          <p:cNvPicPr/>
          <p:nvPr/>
        </p:nvPicPr>
        <p:blipFill>
          <a:blip r:embed="rId1"/>
          <a:stretch/>
        </p:blipFill>
        <p:spPr>
          <a:xfrm>
            <a:off x="2971800" y="4038480"/>
            <a:ext cx="3276720" cy="216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TYPES OF STRES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676520" y="2514600"/>
            <a:ext cx="71625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USTR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TRES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EUSTRES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48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S GOOD STRES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OSITIVE STRES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U – GREEK PREFIX WHICH MEANS GOO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DISTRES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AD STRES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EGATIVE STRES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checker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STRESSOR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NGS THAT PRODUCE A STRESS RESPONS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4" name="Picture 5" descr="C:\Program Files\Common Files\Microsoft Shared\Clipart\cagcat50\pe03166_.wmf"/>
          <p:cNvPicPr/>
          <p:nvPr/>
        </p:nvPicPr>
        <p:blipFill>
          <a:blip r:embed="rId1"/>
          <a:stretch/>
        </p:blipFill>
        <p:spPr>
          <a:xfrm>
            <a:off x="6019920" y="3733920"/>
            <a:ext cx="1695240" cy="1788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C:\Program Files\Microsoft Office\Clipart\Pub60Cor\bd00146_.wmf"/>
          <p:cNvPicPr/>
          <p:nvPr/>
        </p:nvPicPr>
        <p:blipFill>
          <a:blip r:embed="rId2"/>
          <a:stretch/>
        </p:blipFill>
        <p:spPr>
          <a:xfrm>
            <a:off x="1752480" y="3809880"/>
            <a:ext cx="1827360" cy="18129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3" name="chimes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TYPES OF STRESSOR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IOLOGICAL STRESSOR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NVIRONMENTA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OGNITIVE OR THINK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ERSONAL BEHAVIOR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IFE STITUATIO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STRESSOR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48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BIOLOGICAL-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ental or physical illnes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x. being blind, break an arm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67000" y="1981080"/>
            <a:ext cx="384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ENVIROMENTAL-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overty, pollution, crowding, noises and natural disaste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MORE STRESSOR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48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COGNITIVE OR THINKING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- the way you perceive a situa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67000" y="1981080"/>
            <a:ext cx="384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PERSONAL BEHAVIOR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- negative reaction of the mind and body because of drugs,alcohol, etc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4T12:03:26Z</dcterms:created>
  <dc:creator>Unknown User</dc:creator>
  <dc:description/>
  <dc:language>en-US</dc:language>
  <cp:lastModifiedBy>ddominguez</cp:lastModifiedBy>
  <dcterms:modified xsi:type="dcterms:W3CDTF">2009-05-26T17:31:12Z</dcterms:modified>
  <cp:revision>4</cp:revision>
  <dc:subject/>
  <dc:title>STRESS MANAGEMENT</dc:title>
</cp:coreProperties>
</file>